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229-1E2D-4FC9-981F-44238C61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k began 2years ago. Facilitated by Charla Wright in collaboration with the OIS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oked at the instructional models being implemented in the district such as Backward Design, SI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Envisioned to emphasize high expectations and success for all students; is based on current educational research and best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structional framework is proposed for supporting personalised learning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udent-centered and learning-focussed approach of instruction aiming to address learner differences and conciliate their learning style, preferences and progress during content inte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udent Centered Instructional Model that nurtures student achievement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ing the focus of activity from the teacher to the lear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Equity based model that intentionally and consistently creates opportunities, provides necessary resources and facilitates access to educational arrangements for each student to develop a host of sophisticated skills, including the ability to solve problems, communicate effectively, think critically, and grasp complex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is based on current educational research and best practices; and supports the goals and strategic plan of the Juneau School District of rigor, relevance, and relation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s by the JSD district goals, Content Goals and objectives and Languag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tudents is in relation to the content and materials (background Knowledge), What are the present skills, what needs to be built to assure success (building background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the JSD strategic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connected to adults, challenged with high standards and Instruction individualiz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Profile with accurate information of current readiness to interact with the content to be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 to make content and process comprehensible for each student and product diversity to engage student’s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viting learning environment that reflects students identity and where each student feels present, recognized and celebr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irst major goal is to measure how well students are actually achieving each of the learning outcom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track and compare student achievement across different years, measure success of instruction and curricular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econd major goal is to use assessment data to make changes to improve programs, identify program needs, staff development, additional support and/or allocation of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measu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valu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udent performance, achievement or knowledg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ly constructed or standardized tes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rect measu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es learning outcome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direct measures are self-reports (usually surveys, journals, focus groups, intervie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70A-27B9-4E4E-AFBF-9FB98C62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5DF-D84D-4038-8E7E-9C8364C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821-3557-4284-9F7B-C4B3ADE7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955-210B-4CC5-A56B-36B8CAA8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96DF-5247-4F8A-B49A-0D218E00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8A1A-98CD-46FA-8887-12196D64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73EB-79AC-4245-9754-2964BB74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3929-669F-4238-B5E8-9129A46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D17-4340-4AD8-91B7-BA73147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081-8242-431A-A20B-B8A2100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964B-6126-4204-BE6E-97EFD57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FC6-65BA-4009-B305-D4527311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BAE-B3F6-49AB-B15C-D339B58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315D-ABA6-4F8B-B0EE-20A78E5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B8A8-8AC5-49CD-A861-8E3B46A7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062-42B2-474B-892E-946678EA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060-7347-4F3E-B97B-A1992D24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31B-9BCA-42F1-A925-7B69FF6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31-8E62-4E1F-90E9-8950F75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6DA-810A-4F5F-B3E7-3F60E31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AC9-D06B-4686-87C6-043D325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94C-ADEE-4087-8DBE-4491C4AE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4BD-3B57-4597-83F2-1F5C60D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37-7B5E-41D5-B682-3A22A1D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226F-32E2-4080-8976-8EA6FF492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1EA4-EE69-4DA1-B3CB-9D212A7AE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004840" y="4281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neau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80080" y="730080"/>
            <a:ext cx="2622600" cy="3276720"/>
          </a:xfrm>
          <a:prstGeom prst="rect">
            <a:avLst/>
          </a:prstGeom>
          <a:ln w="0">
            <a:noFill/>
          </a:ln>
          <a:effectLst>
            <a:outerShdw dist="38222" dir="1796741" blurRad="0" rotWithShape="0">
              <a:srgbClr val="808080">
                <a:alpha val="58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neau School District Instruction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Ce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ty Fou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 fundamental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pinning_end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03848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51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ision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31240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rooted in the vision of an empowered community where learning is continuous, relevant, and adaptiv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base for instructional focus within and across classrooms and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uild instructional environments that nurture high expectations, positive student outcomes and personal responsibility for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common discourse around classroom assessment as a reflection of student learning and instruction refi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rch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udent_faces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ctional Framewor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666880"/>
            <a:ext cx="304776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209680"/>
            <a:ext cx="3047760" cy="2133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sential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at do we want students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nd be able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au School Distri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 Goals &amp; Object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 &amp; Cont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age Objecti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Specific Comprehension and Communication Compe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Language Proficienc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 for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es each stu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d abl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ent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ct Assess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666880"/>
            <a:ext cx="304812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fferentiated Instructio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w does my instructional design suppor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G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all stud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SD Strategic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ing Your Systems for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, Process, Produ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Learn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362320"/>
            <a:ext cx="12952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590920"/>
            <a:ext cx="3200400" cy="1447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undational Compon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idence of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w will the stu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MONSTRAT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UNICAT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uc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minating Task/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ative and Formativ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 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27672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800600"/>
            <a:ext cx="304920" cy="152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0574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666880"/>
            <a:ext cx="304812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209680"/>
            <a:ext cx="3048120" cy="2133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29:20Z</dcterms:created>
  <dc:creator>Technology Juneau</dc:creator>
  <dc:description/>
  <cp:keywords/>
  <dc:language>en-US</dc:language>
  <cp:lastModifiedBy>JSD Technology Riverbend</cp:lastModifiedBy>
  <cp:lastPrinted>2007-10-17T16:28:34Z</cp:lastPrinted>
  <dcterms:modified xsi:type="dcterms:W3CDTF">2008-08-22T02:29:47Z</dcterms:modified>
  <cp:revision>40</cp:revision>
  <dc:subject/>
  <dc:title>                    </dc:title>
</cp:coreProperties>
</file>